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132-5987-4563-8182-7B3A16AC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FAF-D613-472E-8C64-EB71EC1C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FFF-EB85-4E7B-8149-3EBBB016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BB8-397E-4DF4-8715-3F00B283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AB91-5374-471B-8C10-34C3B579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74ED-41E5-4307-8B5E-D1674A62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1973-B9A7-446F-8D06-A6A6FFC1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0E8D-7908-4C7B-94EA-76B1B0D4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95FC-38B2-4C76-850D-FDDA8381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C1F6-0595-45F2-AADA-D3D3E35A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B037-D0A0-4D72-BE29-3F24935E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BB0-0145-40EC-BF5A-8D4497E2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048A-BF76-471E-9642-A881C69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7655-D92D-4028-815A-A4C989B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09FF-EE43-43E2-B4B8-AA8830D8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BD08-2C8D-40A5-848D-46E69D46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564D-AEC4-43A6-B5E0-51A3F8BC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9C5-2848-4069-BCA4-0889DDF3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FAE-60D7-4D58-BFC2-A40A7A71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72E-5085-4FA6-818A-C4FFDAC3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A4C-417B-44B4-82DB-8F9344F2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A76-B519-46D9-824B-CE8A56F4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B24-D63B-4925-82FF-F8A5398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304-F545-4026-9FED-39E80E4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B45A-4DC7-44FF-925F-48996B4FA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0F81-9B89-4305-B7C2-AA626DDEF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353960"/>
            <a:ext cx="74674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Anime Ace"/>
              </a:rPr>
              <a:t>Cellular Respiration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434340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nime Ace"/>
              </a:rPr>
              <a:t>Pages 220 - 23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Cellular Respiration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2438280"/>
            <a:ext cx="32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ycolysi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257800"/>
            <a:ext cx="388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4800600"/>
            <a:ext cx="4343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erobic (Oxidative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361960" y="3276720"/>
            <a:ext cx="4343760" cy="1904760"/>
            <a:chOff x="2361960" y="3276720"/>
            <a:chExt cx="4343760" cy="1904760"/>
          </a:xfrm>
        </p:grpSpPr>
        <p:sp>
          <p:nvSpPr>
            <p:cNvPr id="145" name=""/>
            <p:cNvSpPr/>
            <p:nvPr/>
          </p:nvSpPr>
          <p:spPr>
            <a:xfrm flipH="1">
              <a:off x="2361960" y="3276720"/>
              <a:ext cx="1904760" cy="1904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67080" y="3276720"/>
              <a:ext cx="2438640" cy="1600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38080" y="3276720"/>
            <a:ext cx="22860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aerob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without 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3124080"/>
            <a:ext cx="2514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erob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with 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2438280"/>
            <a:ext cx="32767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181480"/>
            <a:ext cx="419076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76640" y="4876920"/>
            <a:ext cx="403884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14600" y="2057400"/>
            <a:ext cx="403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343400"/>
            <a:ext cx="28195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Lactic Aci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4343400"/>
            <a:ext cx="2895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lcohol &amp; C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520" y="2819520"/>
            <a:ext cx="4115160" cy="1447560"/>
            <a:chOff x="2666520" y="2819520"/>
            <a:chExt cx="4115160" cy="1447560"/>
          </a:xfrm>
        </p:grpSpPr>
        <p:sp>
          <p:nvSpPr>
            <p:cNvPr id="156" name=""/>
            <p:cNvSpPr/>
            <p:nvPr/>
          </p:nvSpPr>
          <p:spPr>
            <a:xfrm flipH="1">
              <a:off x="2666520" y="2819520"/>
              <a:ext cx="1676520" cy="144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43400" y="2819520"/>
              <a:ext cx="2438280" cy="1371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19320" y="571500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: Musc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715000" y="5791320"/>
            <a:ext cx="2666880" cy="1068120"/>
            <a:chOff x="5715000" y="5791320"/>
            <a:chExt cx="2666880" cy="1068120"/>
          </a:xfrm>
        </p:grpSpPr>
        <p:sp>
          <p:nvSpPr>
            <p:cNvPr id="160" name=""/>
            <p:cNvSpPr/>
            <p:nvPr/>
          </p:nvSpPr>
          <p:spPr>
            <a:xfrm>
              <a:off x="5715000" y="5791320"/>
              <a:ext cx="266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x: Bacteria  &amp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00800" y="6308640"/>
              <a:ext cx="167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Yeas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514600" y="2057400"/>
            <a:ext cx="39625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267080"/>
            <a:ext cx="327672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191120"/>
            <a:ext cx="312408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nime Ace"/>
              </a:rPr>
              <a:t>Energy For Anaerobic Respiration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057400"/>
            <a:ext cx="3429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Glycolysis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42900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4952880"/>
            <a:ext cx="1904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81080"/>
            <a:ext cx="1066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3429000"/>
            <a:ext cx="99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4876920"/>
            <a:ext cx="838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nime Ace"/>
              </a:rPr>
              <a:t>Energy For Aerobic Respiration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057400"/>
            <a:ext cx="3429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Glycolysis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342900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erobic Respira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5486400"/>
            <a:ext cx="1905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2057400"/>
            <a:ext cx="1066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657600"/>
            <a:ext cx="1066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5410080"/>
            <a:ext cx="1066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rot="9361800">
            <a:off x="5409360" y="837720"/>
            <a:ext cx="763560" cy="304920"/>
          </a:xfrm>
          <a:prstGeom prst="rightArrow">
            <a:avLst>
              <a:gd name="adj1" fmla="val 50000"/>
              <a:gd name="adj2" fmla="val 62603"/>
            </a:avLst>
          </a:prstGeom>
          <a:solidFill>
            <a:srgbClr val="008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3809880" cy="1326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: Photosynth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sm: Pl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ccurs: Chloropla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55000">
            <a:off x="5715000" y="1752480"/>
            <a:ext cx="1754280" cy="457200"/>
          </a:xfrm>
          <a:custGeom>
            <a:avLst/>
            <a:gdLst>
              <a:gd name="textAreaLeft" fmla="*/ 306720 w 1754280"/>
              <a:gd name="textAreaRight" fmla="*/ 1271880 w 17542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743200"/>
            <a:ext cx="2590560" cy="5101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ucose and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7542000">
            <a:off x="6021000" y="3884040"/>
            <a:ext cx="1676160" cy="46044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61560 h 460440"/>
              <a:gd name="textAreaBottom" fmla="*/ 39888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4191120"/>
            <a:ext cx="1981080" cy="68580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4267080"/>
            <a:ext cx="1752480" cy="542880"/>
          </a:xfrm>
          <a:custGeom>
            <a:avLst/>
            <a:gdLst/>
            <a:ahLst/>
            <a:rect l="l" t="t" r="r" b="b"/>
            <a:pathLst>
              <a:path w="1104" h="304">
                <a:moveTo>
                  <a:pt x="0" y="248"/>
                </a:moveTo>
                <a:cubicBezTo>
                  <a:pt x="60" y="124"/>
                  <a:pt x="120" y="0"/>
                  <a:pt x="144" y="8"/>
                </a:cubicBezTo>
                <a:cubicBezTo>
                  <a:pt x="168" y="16"/>
                  <a:pt x="120" y="296"/>
                  <a:pt x="144" y="296"/>
                </a:cubicBezTo>
                <a:cubicBezTo>
                  <a:pt x="168" y="296"/>
                  <a:pt x="264" y="8"/>
                  <a:pt x="288" y="8"/>
                </a:cubicBezTo>
                <a:cubicBezTo>
                  <a:pt x="312" y="8"/>
                  <a:pt x="264" y="296"/>
                  <a:pt x="288" y="296"/>
                </a:cubicBezTo>
                <a:cubicBezTo>
                  <a:pt x="312" y="296"/>
                  <a:pt x="408" y="8"/>
                  <a:pt x="432" y="8"/>
                </a:cubicBezTo>
                <a:cubicBezTo>
                  <a:pt x="456" y="8"/>
                  <a:pt x="416" y="296"/>
                  <a:pt x="432" y="296"/>
                </a:cubicBezTo>
                <a:cubicBezTo>
                  <a:pt x="448" y="296"/>
                  <a:pt x="504" y="8"/>
                  <a:pt x="528" y="8"/>
                </a:cubicBezTo>
                <a:cubicBezTo>
                  <a:pt x="552" y="8"/>
                  <a:pt x="552" y="296"/>
                  <a:pt x="576" y="296"/>
                </a:cubicBezTo>
                <a:cubicBezTo>
                  <a:pt x="600" y="296"/>
                  <a:pt x="648" y="8"/>
                  <a:pt x="672" y="8"/>
                </a:cubicBezTo>
                <a:cubicBezTo>
                  <a:pt x="696" y="8"/>
                  <a:pt x="696" y="288"/>
                  <a:pt x="720" y="296"/>
                </a:cubicBezTo>
                <a:cubicBezTo>
                  <a:pt x="744" y="304"/>
                  <a:pt x="800" y="56"/>
                  <a:pt x="816" y="56"/>
                </a:cubicBezTo>
                <a:cubicBezTo>
                  <a:pt x="832" y="56"/>
                  <a:pt x="792" y="296"/>
                  <a:pt x="816" y="296"/>
                </a:cubicBezTo>
                <a:cubicBezTo>
                  <a:pt x="840" y="296"/>
                  <a:pt x="936" y="64"/>
                  <a:pt x="960" y="56"/>
                </a:cubicBezTo>
                <a:cubicBezTo>
                  <a:pt x="984" y="48"/>
                  <a:pt x="944" y="240"/>
                  <a:pt x="960" y="248"/>
                </a:cubicBezTo>
                <a:cubicBezTo>
                  <a:pt x="976" y="256"/>
                  <a:pt x="1032" y="104"/>
                  <a:pt x="1056" y="104"/>
                </a:cubicBezTo>
                <a:cubicBezTo>
                  <a:pt x="1080" y="104"/>
                  <a:pt x="1092" y="176"/>
                  <a:pt x="1104" y="24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5032440"/>
            <a:ext cx="4038480" cy="1789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: Respi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sm: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ccurs: Mitochondria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3462200">
            <a:off x="2285640" y="4037760"/>
            <a:ext cx="1754280" cy="274680"/>
          </a:xfrm>
          <a:custGeom>
            <a:avLst/>
            <a:gdLst>
              <a:gd name="textAreaLeft" fmla="*/ 306720 w 1754280"/>
              <a:gd name="textAreaRight" fmla="*/ 1271880 w 175428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9183200">
            <a:off x="2362320" y="1752480"/>
            <a:ext cx="1828800" cy="38124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28195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4343400"/>
            <a:ext cx="9907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743200"/>
            <a:ext cx="2286000" cy="609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4343400"/>
            <a:ext cx="457200" cy="76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BD08044_" descr=""/>
          <p:cNvPicPr/>
          <p:nvPr/>
        </p:nvPicPr>
        <p:blipFill>
          <a:blip r:embed="rId2"/>
          <a:stretch/>
        </p:blipFill>
        <p:spPr>
          <a:xfrm>
            <a:off x="4191120" y="60948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5257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533412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Cycle of Energy in L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DD01339_" descr=""/>
          <p:cNvPicPr/>
          <p:nvPr/>
        </p:nvPicPr>
        <p:blipFill>
          <a:blip r:embed="rId3"/>
          <a:stretch/>
        </p:blipFill>
        <p:spPr>
          <a:xfrm>
            <a:off x="6400800" y="0"/>
            <a:ext cx="1519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Definition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2209680"/>
            <a:ext cx="8229600" cy="1617840"/>
            <a:chOff x="685800" y="2209680"/>
            <a:chExt cx="8229600" cy="1617840"/>
          </a:xfrm>
        </p:grpSpPr>
        <p:sp>
          <p:nvSpPr>
            <p:cNvPr id="89" name=""/>
            <p:cNvSpPr/>
            <p:nvPr/>
          </p:nvSpPr>
          <p:spPr>
            <a:xfrm>
              <a:off x="762120" y="3047760"/>
              <a:ext cx="7772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(in food) into energy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2209680"/>
              <a:ext cx="8229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reaking down carbohydrates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Organisms that Respire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  <a:ea typeface="Times New Roman"/>
              </a:rPr>
              <a:t>All living thing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Location in Cells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  <a:ea typeface="Times New Roman"/>
              </a:rPr>
              <a:t>Mitochondria (and cytoplasm)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Mitochondria" descr=""/>
          <p:cNvPicPr/>
          <p:nvPr/>
        </p:nvPicPr>
        <p:blipFill>
          <a:blip r:embed="rId2"/>
          <a:srcRect l="6345" t="11391" r="11112" b="13399"/>
          <a:stretch/>
        </p:blipFill>
        <p:spPr>
          <a:xfrm>
            <a:off x="2362320" y="3581280"/>
            <a:ext cx="3962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Glycolysis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1981080"/>
            <a:ext cx="7696080" cy="3675600"/>
            <a:chOff x="685800" y="1981080"/>
            <a:chExt cx="7696080" cy="3675600"/>
          </a:xfrm>
        </p:grpSpPr>
        <p:sp>
          <p:nvSpPr>
            <p:cNvPr id="98" name=""/>
            <p:cNvSpPr/>
            <p:nvPr/>
          </p:nvSpPr>
          <p:spPr>
            <a:xfrm>
              <a:off x="685800" y="4876920"/>
              <a:ext cx="76201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duces 2 ATP (energy)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3886200"/>
              <a:ext cx="73152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ccurs in the cytoplasm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685800" y="1981080"/>
              <a:ext cx="7696080" cy="1694160"/>
              <a:chOff x="685800" y="1981080"/>
              <a:chExt cx="7696080" cy="1694160"/>
            </a:xfrm>
          </p:grpSpPr>
          <p:sp>
            <p:nvSpPr>
              <p:cNvPr id="101" name=""/>
              <p:cNvSpPr/>
              <p:nvPr/>
            </p:nvSpPr>
            <p:spPr>
              <a:xfrm>
                <a:off x="1219320" y="2895480"/>
                <a:ext cx="71625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breakdown of glucose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85800" y="1981080"/>
                <a:ext cx="70102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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 </a:t>
                </a: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the first step in the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2 types of cell respi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(Using Oxyg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(No Oxyg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Fermentation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9480" y="1981080"/>
            <a:ext cx="8153640" cy="4208760"/>
            <a:chOff x="609480" y="1981080"/>
            <a:chExt cx="8153640" cy="4208760"/>
          </a:xfrm>
        </p:grpSpPr>
        <p:sp>
          <p:nvSpPr>
            <p:cNvPr id="107" name=""/>
            <p:cNvSpPr/>
            <p:nvPr/>
          </p:nvSpPr>
          <p:spPr>
            <a:xfrm>
              <a:off x="609480" y="5410080"/>
              <a:ext cx="8077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duces 0 ATP (energy)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746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ccurs in the cytoplasm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09480" y="1981080"/>
              <a:ext cx="8153640" cy="3065760"/>
              <a:chOff x="609480" y="1981080"/>
              <a:chExt cx="8153640" cy="3065760"/>
            </a:xfrm>
          </p:grpSpPr>
          <p:sp>
            <p:nvSpPr>
              <p:cNvPr id="110" name=""/>
              <p:cNvSpPr/>
              <p:nvPr/>
            </p:nvSpPr>
            <p:spPr>
              <a:xfrm>
                <a:off x="1143000" y="3581280"/>
                <a:ext cx="624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when oxygen is absent)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43000" y="2743200"/>
                <a:ext cx="76201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break down of glucose (only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480" y="1981080"/>
                <a:ext cx="8153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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 </a:t>
                </a: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the second step in the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Oxidative Respiration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1981080"/>
            <a:ext cx="8077320" cy="4208760"/>
            <a:chOff x="685800" y="1981080"/>
            <a:chExt cx="8077320" cy="4208760"/>
          </a:xfrm>
        </p:grpSpPr>
        <p:sp>
          <p:nvSpPr>
            <p:cNvPr id="115" name=""/>
            <p:cNvSpPr/>
            <p:nvPr/>
          </p:nvSpPr>
          <p:spPr>
            <a:xfrm>
              <a:off x="685800" y="5410080"/>
              <a:ext cx="8077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duces 34 ATP (energy)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495680"/>
              <a:ext cx="7620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ccurs in the mitochondria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85800" y="1981080"/>
              <a:ext cx="8001000" cy="3142080"/>
              <a:chOff x="685800" y="1981080"/>
              <a:chExt cx="8001000" cy="3142080"/>
            </a:xfrm>
          </p:grpSpPr>
          <p:sp>
            <p:nvSpPr>
              <p:cNvPr id="118" name=""/>
              <p:cNvSpPr/>
              <p:nvPr/>
            </p:nvSpPr>
            <p:spPr>
              <a:xfrm>
                <a:off x="1295280" y="3657600"/>
                <a:ext cx="64771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when oxygen is present)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19320" y="2819520"/>
                <a:ext cx="74674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break down of glucose (only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5800" y="1981080"/>
                <a:ext cx="79246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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 </a:t>
                </a: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the second step in the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6858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erobic respir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</a:rPr>
              <a:t>Reaction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920" y="2819520"/>
            <a:ext cx="8839080" cy="1071000"/>
            <a:chOff x="304920" y="2819520"/>
            <a:chExt cx="8839080" cy="1071000"/>
          </a:xfrm>
        </p:grpSpPr>
        <p:sp>
          <p:nvSpPr>
            <p:cNvPr id="124" name=""/>
            <p:cNvSpPr/>
            <p:nvPr/>
          </p:nvSpPr>
          <p:spPr>
            <a:xfrm>
              <a:off x="304920" y="3276720"/>
              <a:ext cx="8839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+  6 O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                    6 CO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 +  6 H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O + 36 ATP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71800" y="3505320"/>
              <a:ext cx="182880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8120" y="2819520"/>
              <a:ext cx="182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nzym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57200" y="40384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luco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11480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191120"/>
            <a:ext cx="1447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oxi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2670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426708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48640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5791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62120" y="5181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62280" y="5181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76920" y="5486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534520" y="5486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6386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943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7:33Z</dcterms:created>
  <dc:creator>Plano ISD</dc:creator>
  <dc:description/>
  <dc:language>en-US</dc:language>
  <cp:lastModifiedBy>gotcherb</cp:lastModifiedBy>
  <dcterms:modified xsi:type="dcterms:W3CDTF">2007-12-03T13:27:18Z</dcterms:modified>
  <cp:revision>19</cp:revision>
  <dc:subject/>
  <dc:title>Respiration</dc:title>
</cp:coreProperties>
</file>